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E21-237A-475B-8BCC-34FD192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0A2-D2CA-49F5-90BC-3799B185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BA8-1543-4008-AA66-B4D2CDF8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2C1-2DFD-4CF7-9B6D-0E3D4CEE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60F-FBD3-4B41-81CE-3AD50C0A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ED5-1845-4E61-820B-D057D45F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D7ED-A80B-4051-95E1-621355AD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EAD0-96D2-489B-AC5D-4815FB3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E11-5C92-42D7-9BAC-06A904B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7AAD-5C24-4D1E-81EB-0C28084C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C10-9361-4600-AFCE-540DB21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709-F19D-4066-AFA9-A094578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F2ED-C13B-4EF3-82F7-F81DE58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933-ED30-4A24-B458-B16A11AB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12E6-3552-4243-A073-B2E48CCC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61B7-DBF5-4B80-8683-170C56DD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E7A7-C79F-4E73-9A6D-A21D975E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324-0BE5-4DC6-B533-506D580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838-1F44-48A0-8D19-74A2C46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97C-BF44-497D-9DE9-A8409F7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352-AACA-4085-8046-F672B6E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48A-AE20-4EED-B9F6-CC1D2C8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FBF-4AC6-4E35-AB4D-D6793AD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95B-DA49-4A4D-B652-613CFA7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872D-B127-4D50-AD86-2065B5B68D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17D8-0913-4500-A017-8AF778554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715160" cy="4714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7f0000"/>
                </a:solidFill>
                <a:latin typeface="Comic Sans MS"/>
              </a:rPr>
              <a:t>Общие понятия о сечениях. Правила выполнения наложенных и вынесенных сечений, их обозначение.</a:t>
            </a:r>
            <a:br>
              <a:rPr sz="9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246280" y="4530600"/>
            <a:ext cx="233532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Мысленно представляем фигуру се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9"/>
          <p:cNvPicPr/>
          <p:nvPr/>
        </p:nvPicPr>
        <p:blipFill>
          <a:blip r:embed="rId1"/>
          <a:stretch/>
        </p:blipFill>
        <p:spPr>
          <a:xfrm>
            <a:off x="4500720" y="1828800"/>
            <a:ext cx="38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Представленную фигуру изображаем на чертеж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10"/>
          <p:cNvPicPr/>
          <p:nvPr/>
        </p:nvPicPr>
        <p:blipFill>
          <a:blip r:embed="rId1"/>
          <a:stretch/>
        </p:blipFill>
        <p:spPr>
          <a:xfrm>
            <a:off x="5148360" y="1989000"/>
            <a:ext cx="30240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На сечениях показывают только то, что находится непосредственно в секущей плоскос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Сечение – это не действие, а изображени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3772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Вынес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Comic Sans MS"/>
              </a:rPr>
              <a:t>Наложенны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2626920" y="981000"/>
            <a:ext cx="136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211640" y="98100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0" descr="12"/>
          <p:cNvPicPr/>
          <p:nvPr/>
        </p:nvPicPr>
        <p:blipFill>
          <a:blip r:embed="rId1"/>
          <a:stretch/>
        </p:blipFill>
        <p:spPr>
          <a:xfrm>
            <a:off x="900000" y="2060640"/>
            <a:ext cx="7417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Обо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11"/>
          <p:cNvPicPr/>
          <p:nvPr/>
        </p:nvPicPr>
        <p:blipFill>
          <a:blip r:embed="rId1"/>
          <a:stretch/>
        </p:blipFill>
        <p:spPr>
          <a:xfrm>
            <a:off x="900000" y="1413000"/>
            <a:ext cx="720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685800" y="2760840"/>
          <a:ext cx="377208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0840"/>
                    <a:ext cx="377208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Picture 9" descr="13"/>
          <p:cNvPicPr/>
          <p:nvPr/>
        </p:nvPicPr>
        <p:blipFill>
          <a:blip r:embed="rId3"/>
          <a:stretch/>
        </p:blipFill>
        <p:spPr>
          <a:xfrm>
            <a:off x="250920" y="1052640"/>
            <a:ext cx="79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Упражнение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6" descr="14"/>
          <p:cNvPicPr/>
          <p:nvPr/>
        </p:nvPicPr>
        <p:blipFill>
          <a:blip r:embed="rId1"/>
          <a:stretch/>
        </p:blipFill>
        <p:spPr>
          <a:xfrm>
            <a:off x="468360" y="1125360"/>
            <a:ext cx="77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понятия о сечениях как изображениях, а также их назначение и приме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алгоритм построения сечен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вать пространственные представления, пространственное мыш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111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7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3918240" cy="302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2"/>
          <p:cNvPicPr/>
          <p:nvPr/>
        </p:nvPicPr>
        <p:blipFill>
          <a:blip r:embed="rId2"/>
          <a:stretch/>
        </p:blipFill>
        <p:spPr>
          <a:xfrm>
            <a:off x="4643280" y="1844640"/>
            <a:ext cx="4105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154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3"/>
          <p:cNvPicPr/>
          <p:nvPr/>
        </p:nvPicPr>
        <p:blipFill>
          <a:blip r:embed="rId1"/>
          <a:stretch/>
        </p:blipFill>
        <p:spPr>
          <a:xfrm>
            <a:off x="709560" y="549360"/>
            <a:ext cx="7647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"/>
          <p:cNvPicPr/>
          <p:nvPr/>
        </p:nvPicPr>
        <p:blipFill>
          <a:blip r:embed="rId1"/>
          <a:stretch/>
        </p:blipFill>
        <p:spPr>
          <a:xfrm>
            <a:off x="685800" y="1052640"/>
            <a:ext cx="3772080" cy="400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6"/>
          <p:cNvPicPr/>
          <p:nvPr/>
        </p:nvPicPr>
        <p:blipFill>
          <a:blip r:embed="rId2"/>
          <a:stretch/>
        </p:blipFill>
        <p:spPr>
          <a:xfrm>
            <a:off x="5724360" y="1557360"/>
            <a:ext cx="23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10"/>
          <p:cNvPicPr/>
          <p:nvPr/>
        </p:nvPicPr>
        <p:blipFill>
          <a:blip r:embed="rId3"/>
          <a:stretch/>
        </p:blipFill>
        <p:spPr>
          <a:xfrm>
            <a:off x="4140360" y="4724280"/>
            <a:ext cx="16095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Сечение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- это изображение</a:t>
            </a:r>
            <a:r>
              <a:rPr b="0" lang="ru-RU" sz="4000" spc="-1" strike="noStrike" u="sng">
                <a:solidFill>
                  <a:srgbClr val="0099ff"/>
                </a:solidFill>
                <a:uFillTx/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99ff"/>
                </a:solidFill>
                <a:latin typeface="Comic Sans MS"/>
              </a:rPr>
              <a:t>фигуры, полученной при мысленном рассечении предмета секущей плоскостью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omic Sans MS"/>
              </a:rPr>
              <a:t>Назначение се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Помогает получать более четкое представление о форме предмет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d60093"/>
                </a:solidFill>
                <a:latin typeface="Comic Sans MS"/>
              </a:rPr>
              <a:t>Дает возможность выполнять меньшее количество изображений на чертеж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772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Мысленно провести секущую плоскость в том месте детали, где необходимо определить форму внутреннего кон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7"/>
          <p:cNvPicPr/>
          <p:nvPr/>
        </p:nvPicPr>
        <p:blipFill>
          <a:blip r:embed="rId1"/>
          <a:stretch/>
        </p:blipFill>
        <p:spPr>
          <a:xfrm>
            <a:off x="4932360" y="1557360"/>
            <a:ext cx="3449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69696"/>
                </a:solidFill>
                <a:latin typeface="Comic Sans MS"/>
              </a:rPr>
              <a:t>Образование сеч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Мысленно удаляем одну из частей дета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8"/>
          <p:cNvPicPr/>
          <p:nvPr/>
        </p:nvPicPr>
        <p:blipFill>
          <a:blip r:embed="rId1"/>
          <a:stretch/>
        </p:blipFill>
        <p:spPr>
          <a:xfrm>
            <a:off x="4716360" y="1828800"/>
            <a:ext cx="350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15:00:58Z</dcterms:created>
  <dc:creator>User</dc:creator>
  <dc:description/>
  <dc:language>en-US</dc:language>
  <cp:lastModifiedBy>Admin</cp:lastModifiedBy>
  <dcterms:modified xsi:type="dcterms:W3CDTF">2012-11-28T15:59:33Z</dcterms:modified>
  <cp:revision>24</cp:revision>
  <dc:subject/>
  <dc:title>Сечение</dc:title>
</cp:coreProperties>
</file>